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7252-F943-4D07-88C4-0C34746C0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403B-D7CF-4D82-BE11-9B60C3621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D318-2B11-48CE-A45C-A93148C866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E2C1-AB65-48B4-90F6-21806BFC40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2BCF-369E-4821-A62D-A38EE8545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6C55-2BC7-4C34-9B6D-3DD68386C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69D-B2B0-44D1-A8C0-7415D3519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B4AB-9326-45D9-9D36-7BE6213491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23DE-6022-42E3-AADD-BA82367022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A884-305F-4FC0-AAF0-A9AEEC1DA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2B39-CDB1-4D52-A387-E766FA659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FDF7-B3C2-4F18-B6FF-615C4DC28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620F-87F0-485D-ADA0-C84AAA2AD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22C6-70EF-4BCF-8D0F-75374C7B0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B54-5707-44E8-ABA0-4E65C6217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8472-0E32-43A6-B1A6-CCF0CB19BA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8F4-39E3-45A2-BBE2-F3D37349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D18C-7AA7-4182-B1AD-AEE940D6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D51F-3FFC-4670-A7FF-3FDD2826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D9C-F395-4E01-84A0-F79932E93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D8A0-7353-4A6D-B4F0-4DEC2954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4F76-4CF5-47C6-9113-9A4847C4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8F4-5FF6-4931-B38E-F46E2C1E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23D-0D1E-422E-99E8-D0E0E5C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846-530C-4C28-BAD1-09E70A96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CF81-F5DA-41C7-8D9E-48E5287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849-F0B4-4B4D-B56F-E478B962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2956-33D3-4D94-8EA4-429EF9EC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0131-FB61-4DF2-9863-936C8C760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y and Development of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mmary Gland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53337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. Sama ul Ha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rcRect l="24207" t="27239" r="43667" b="13569"/>
          <a:stretch/>
        </p:blipFill>
        <p:spPr>
          <a:xfrm>
            <a:off x="2224080" y="27000"/>
            <a:ext cx="6805800" cy="6831000"/>
          </a:xfrm>
          <a:prstGeom prst="rect">
            <a:avLst/>
          </a:prstGeom>
          <a:ln w="0">
            <a:noFill/>
          </a:ln>
        </p:spPr>
      </p:pic>
      <p:sp>
        <p:nvSpPr>
          <p:cNvPr id="67" name="Title 1"/>
          <p:cNvSpPr/>
          <p:nvPr/>
        </p:nvSpPr>
        <p:spPr>
          <a:xfrm>
            <a:off x="76320" y="2130480"/>
            <a:ext cx="1828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Supply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erforating branches (Internal thoracic art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teral thoracic artery (Axillary art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oracoacromial artery (Axillary art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tercostal art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C:\Users\ssarain\Desktop\Picture1.png"/>
          <p:cNvPicPr/>
          <p:nvPr/>
        </p:nvPicPr>
        <p:blipFill>
          <a:blip r:embed="rId1"/>
          <a:srcRect l="0" t="23110" r="0" b="0"/>
          <a:stretch/>
        </p:blipFill>
        <p:spPr>
          <a:xfrm>
            <a:off x="96840" y="1143000"/>
            <a:ext cx="8997840" cy="5410080"/>
          </a:xfrm>
          <a:prstGeom prst="rect">
            <a:avLst/>
          </a:prstGeom>
          <a:ln w="0">
            <a:noFill/>
          </a:ln>
        </p:spPr>
      </p:pic>
      <p:sp>
        <p:nvSpPr>
          <p:cNvPr id="71" name="Title 1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ial Supply of the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ous Drainage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Picture 2" descr="C:\Users\ssarain\Desktop\qq.png"/>
          <p:cNvPicPr/>
          <p:nvPr/>
        </p:nvPicPr>
        <p:blipFill>
          <a:blip r:embed="rId1"/>
          <a:stretch/>
        </p:blipFill>
        <p:spPr>
          <a:xfrm>
            <a:off x="1028880" y="741240"/>
            <a:ext cx="70866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24320" t="29034" r="47996" b="22533"/>
          <a:stretch/>
        </p:blipFill>
        <p:spPr>
          <a:xfrm>
            <a:off x="2139840" y="76320"/>
            <a:ext cx="6934320" cy="6607080"/>
          </a:xfrm>
          <a:prstGeom prst="rect">
            <a:avLst/>
          </a:prstGeom>
          <a:ln w="0">
            <a:noFill/>
          </a:ln>
        </p:spPr>
      </p:pic>
      <p:sp>
        <p:nvSpPr>
          <p:cNvPr id="76" name="Title 1"/>
          <p:cNvSpPr/>
          <p:nvPr/>
        </p:nvSpPr>
        <p:spPr>
          <a:xfrm>
            <a:off x="0" y="2130480"/>
            <a:ext cx="2362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drants of the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atic Drainage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teral quadran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Axillary or Pector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No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edial quadran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thoracic group of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Nodes (Parasterna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ew lymph vessels drains in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rior intercostal No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atic Drainage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25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ferior quadran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drain into abdomi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lymph No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ome lymphatic vessels communicate with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atic vessels of the opposite br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rcRect l="0" t="0" r="2069" b="0"/>
          <a:stretch/>
        </p:blipFill>
        <p:spPr>
          <a:xfrm>
            <a:off x="1517760" y="117360"/>
            <a:ext cx="7556400" cy="6635880"/>
          </a:xfrm>
          <a:prstGeom prst="rect">
            <a:avLst/>
          </a:prstGeom>
          <a:ln w="0">
            <a:noFill/>
          </a:ln>
        </p:spPr>
      </p:pic>
      <p:sp>
        <p:nvSpPr>
          <p:cNvPr id="82" name="Title 1"/>
          <p:cNvSpPr/>
          <p:nvPr/>
        </p:nvSpPr>
        <p:spPr>
          <a:xfrm>
            <a:off x="152280" y="228600"/>
            <a:ext cx="23623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mph Drainage of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rcRect l="24683" t="21659" r="31034" b="16422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on of active &amp; inactive ph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scan0024"/>
          <p:cNvPicPr/>
          <p:nvPr/>
        </p:nvPicPr>
        <p:blipFill>
          <a:blip r:embed="rId1"/>
          <a:stretch/>
        </p:blipFill>
        <p:spPr>
          <a:xfrm>
            <a:off x="173160" y="990720"/>
            <a:ext cx="4572000" cy="5738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can0023"/>
          <p:cNvPicPr/>
          <p:nvPr/>
        </p:nvPicPr>
        <p:blipFill>
          <a:blip r:embed="rId2"/>
          <a:srcRect l="0" t="0" r="0" b="4474"/>
          <a:stretch/>
        </p:blipFill>
        <p:spPr>
          <a:xfrm>
            <a:off x="4856040" y="1130400"/>
            <a:ext cx="4191120" cy="545940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4"/>
          <p:cNvSpPr/>
          <p:nvPr/>
        </p:nvSpPr>
        <p:spPr>
          <a:xfrm>
            <a:off x="4745160" y="990720"/>
            <a:ext cx="0" cy="5738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gross structure of the bre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 its blood supply and lymphatic draina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the development of breast and its congenital anomal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2438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s in mammary glan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scan0022"/>
          <p:cNvPicPr/>
          <p:nvPr/>
        </p:nvPicPr>
        <p:blipFill>
          <a:blip r:embed="rId1"/>
          <a:stretch/>
        </p:blipFill>
        <p:spPr>
          <a:xfrm>
            <a:off x="3054240" y="52560"/>
            <a:ext cx="5791320" cy="67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rcRect l="43956" t="13891" r="16096" b="22025"/>
          <a:stretch/>
        </p:blipFill>
        <p:spPr>
          <a:xfrm>
            <a:off x="973080" y="61920"/>
            <a:ext cx="701028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6104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odified Sweat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rst appear as bilateral bands of thickened epidermis called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lines (mammary rid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the 7</a:t>
            </a:r>
            <a:r>
              <a:rPr b="0" lang="en-US" sz="32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week these lines extends on each side of the bod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Forelimb to the region of Hindlim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6104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jor part of each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ry lines disappears shor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mall portion of the mammary lines in the thoracic region persis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penetrates the underlying mesenchy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t forms 16 to 24 sprouts which in turn give rise to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mall solid bu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333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prenatal life, the epithelial sprouts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analize and form lactiferous 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ly lactiferous ducts open into a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mall epithelial pi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shortly after birth transformed into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ip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birth lactiferous ducts ar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void of alve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puberty alveoli and excretory ducts form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ue to hormonal cha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rcRect l="42726" t="35120" r="17418" b="16071"/>
          <a:stretch/>
        </p:blipFill>
        <p:spPr>
          <a:xfrm>
            <a:off x="65160" y="160200"/>
            <a:ext cx="902808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Anomalies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1084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olythelia (Accessary Nippl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ccessary nipples have formed due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ce of fragments of the mammary 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y develop anywhere along the mammary 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usually appear in the axillary reg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Anomalies of the Brea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914400"/>
            <a:ext cx="8610480" cy="325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Polymastia (Supernumerary breas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ccurs when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nant of the mammary 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s into a complete bre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verted Nip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ferous ducts open in the original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thelial pit that has failed to eve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rcRect l="24317" t="15975" r="47155" b="27704"/>
          <a:stretch/>
        </p:blipFill>
        <p:spPr>
          <a:xfrm>
            <a:off x="2774880" y="76320"/>
            <a:ext cx="6216840" cy="6684840"/>
          </a:xfrm>
          <a:prstGeom prst="rect">
            <a:avLst/>
          </a:prstGeom>
          <a:ln w="0">
            <a:noFill/>
          </a:ln>
        </p:spPr>
      </p:pic>
      <p:sp>
        <p:nvSpPr>
          <p:cNvPr id="109" name="Title 1"/>
          <p:cNvSpPr/>
          <p:nvPr/>
        </p:nvSpPr>
        <p:spPr>
          <a:xfrm>
            <a:off x="-125280" y="152280"/>
            <a:ext cx="3200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Anomalies of the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rcRect l="24708" t="47107" r="30895" b="17668"/>
          <a:stretch/>
        </p:blipFill>
        <p:spPr>
          <a:xfrm>
            <a:off x="96840" y="1600200"/>
            <a:ext cx="8993160" cy="3886200"/>
          </a:xfrm>
          <a:prstGeom prst="rect">
            <a:avLst/>
          </a:prstGeom>
          <a:ln w="0">
            <a:noFill/>
          </a:ln>
        </p:spPr>
      </p:pic>
      <p:sp>
        <p:nvSpPr>
          <p:cNvPr id="112" name="Title 1"/>
          <p:cNvSpPr/>
          <p:nvPr/>
        </p:nvSpPr>
        <p:spPr>
          <a:xfrm>
            <a:off x="152280" y="15228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 Anomaly of the Bre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ed Sweat Glands of the sk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in females (Milk secre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dimentary and functionless in 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: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emispher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Gynecomastia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610480" cy="30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largement of breasts in m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at puberty (Usually regress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side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tic cancer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monal im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t: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rtical:   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nd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to 6</a:t>
            </a:r>
            <a:r>
              <a:rPr b="0" lang="en-US" sz="32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ri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Base of the brea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orizontal: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teral margin of th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sternum to the midaxil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breast lies in the superficial fascia (Pectoral fascia) lying on Pectoralis maj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/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breast lies in the superficial fascia lying on Serratus A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04920" y="1274760"/>
            <a:ext cx="861048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pple: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nical or Cylindrical prominence 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center of Areola (Devoid of fat, hair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&amp; sweat glan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ola: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ircular pigmented area of the skin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surrounding the base of the nipple,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containing sebaceous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illary Tail :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mall part of the breast extendin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f Spence)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to the axi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1828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rcRect l="0" t="0" r="4585" b="0"/>
          <a:stretch/>
        </p:blipFill>
        <p:spPr>
          <a:xfrm>
            <a:off x="1882800" y="227160"/>
            <a:ext cx="721188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792440" y="222120"/>
            <a:ext cx="731016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Title 1"/>
          <p:cNvSpPr/>
          <p:nvPr/>
        </p:nvSpPr>
        <p:spPr>
          <a:xfrm>
            <a:off x="0" y="2130480"/>
            <a:ext cx="18288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omammary Space: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Space filled with loose      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onnective tissue between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reast and pectoral fasc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breast consist of 15 to 20 lob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actiferous duct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each lobe opens on the summit of the nipple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iferous duct possesses a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ilated Ampulla (Lactiferous sinu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before its termin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ast (Mammary Glan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4920" y="6858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ibrous sep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es the lobes of the mammary g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pensory ligaments (of Cooper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Mammary gland is firmly attached to th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ermis of the skin by these fibrous septa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forming  suspensory ligam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6:11:37Z</dcterms:created>
  <dc:creator>www.arabswell.com</dc:creator>
  <dc:description/>
  <dc:language>en-US</dc:language>
  <cp:lastModifiedBy>Sama Ulhaqe sarain</cp:lastModifiedBy>
  <dcterms:modified xsi:type="dcterms:W3CDTF">2012-05-16T09:49:28Z</dcterms:modified>
  <cp:revision>94</cp:revision>
  <dc:subject/>
  <dc:title>BREAST DISEASES</dc:title>
</cp:coreProperties>
</file>